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495-9020-4C96-8A10-D4AACF37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0D0-BB97-4ADE-BEF5-AC61858F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E69-4DC4-4A03-B302-422C5308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338-907F-4BB8-BEEE-A947B263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F7C-2599-44FA-BF2E-16C93520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119-E351-487A-995F-B4C285B5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B93-67A2-408E-892B-7FF2D0DF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998-ED18-45D9-A3D8-FF9CC923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B82-24CC-4860-A49E-E2B7A6D9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1D7-495A-4D77-8277-1F066E8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377-A6CA-429E-89BE-CA961702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494-9F4A-47A9-A7C7-0AC24BDF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D8FD-3055-419A-BF47-72FE06CBFAE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use-of-personal-disk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4Kv6lk0GKY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ki-load-balance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b_tyjvk8g78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how-to-set-multiple-os-boot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graphic-boot-menu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single-image-for-multiple-specifications.ht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ccboot-third-part-dhcp-tftp.ht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vlan-multiple-lan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-game.se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case.htm" TargetMode="External"/><Relationship Id="rId3" Type="http://schemas.openxmlformats.org/officeDocument/2006/relationships/hyperlink" Target="http://www.ccboot.com/internet-cafe-software.htm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restore-point-management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kişisel diski, istemci yeniden başlatılsa bile asla kaybolmayacak şekilde, istemci verilerini depolama görevini yerine getir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use-of-personal-dis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işisel Di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640" y="213336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Super Yönlendirme aynı anda çalışmakta olan iki sistemi yönetebilir. Eğer sistemlerden biri sekteye uğrarsa, diğeri devreye girecek ve istemcileri etkilemeksizin ya da yeniden başlatmaksızın bu durumun üstesinden gelecek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h4Kv6lk0G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uper Yönlendirme ile İşlem Başarısızlığı Tarih Ol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71280" y="2053800"/>
            <a:ext cx="7056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birden fazla ağ arayüzü kontrolcüsüne sahip tekil bir sunucu yükleme dengesini ve çoklu sunucu yükleme dengesini desteklemekte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ki-load-balanc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Yükleme Denge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08"/>
          <p:cNvPicPr/>
          <p:nvPr/>
        </p:nvPicPr>
        <p:blipFill>
          <a:blip r:embed="rId3"/>
          <a:stretch/>
        </p:blipFill>
        <p:spPr>
          <a:xfrm>
            <a:off x="2556000" y="4221000"/>
            <a:ext cx="3744720" cy="20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42920" y="1988640"/>
            <a:ext cx="70581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Windows alan adı ile kusursuz şekilde çalışır. Bir kimse alan adı hesabıyla giriş yapabilir, sonrasında kişisel verisini kendi kişisel diskine yükleme ve oradan geri alma işlemlerini yap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_tyjvk8g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52360" y="99072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Windows Alan adı desteklenmekted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9"/>
          <p:cNvPicPr/>
          <p:nvPr/>
        </p:nvPicPr>
        <p:blipFill>
          <a:blip r:embed="rId3"/>
          <a:stretch/>
        </p:blipFill>
        <p:spPr>
          <a:xfrm>
            <a:off x="2843280" y="4365720"/>
            <a:ext cx="3166920" cy="216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71640" y="2205000"/>
            <a:ext cx="7129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Windows XP, Windows 7 ve Windows 8 gibi işletim sistemlerinde disksiz önyükleme görevini yürütebilir. Bunun yanında, çoklu İşletim Sistemi önyüklemesi de yürütüle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stem Destekle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windows8"/>
          <p:cNvPicPr/>
          <p:nvPr/>
        </p:nvPicPr>
        <p:blipFill>
          <a:blip r:embed="rId2"/>
          <a:stretch/>
        </p:blipFill>
        <p:spPr>
          <a:xfrm>
            <a:off x="1332000" y="4219560"/>
            <a:ext cx="259236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windowsxp"/>
          <p:cNvPicPr/>
          <p:nvPr/>
        </p:nvPicPr>
        <p:blipFill>
          <a:blip r:embed="rId3"/>
          <a:stretch/>
        </p:blipFill>
        <p:spPr>
          <a:xfrm>
            <a:off x="6229440" y="4003560"/>
            <a:ext cx="158436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windows7"/>
          <p:cNvPicPr/>
          <p:nvPr/>
        </p:nvPicPr>
        <p:blipFill>
          <a:blip r:embed="rId4"/>
          <a:stretch/>
        </p:blipFill>
        <p:spPr>
          <a:xfrm>
            <a:off x="4213080" y="3860640"/>
            <a:ext cx="1633680" cy="11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Çoklu İşletim Sistemi Önyüklemesi, aynı istemcide başlatılmak üzere birden fazla işletim sisteminin yürütülmesini sağ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how-to-set-multiple-os-boo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917640"/>
            <a:ext cx="820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Çoklu İşletim Sistemi Önyükleme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önyükleme görselinin özelleştirilmesine olanak tanır. Grafik önyükleme menüsünü dilediğiniz gibi belirleyebilirsini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graphic-boot-menu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Grafik Önyükl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416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’un Tak ve Kullan fonksiyonu, farklı donanımlara sahip tüm istemci PC’ler için tek bir imaj dosyası yaratmayı mümkün hale getirmekted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single-image-for-multiple-specifica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Farklı Konfigürasyonlar için Tek İmaj Dosyas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yönetimin daha elverişli hale gelmesini sağlayan üçüncü parti DHCP ve TFTP ile uyumlu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ccboot-third-part-dhcp-tft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Üçüncü Parti DHCP ve TFT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, çift Ağ Arayüzü Kontrolcüsü ve çift LAN ile çift LAN bölgesi ve hatta VLAN üzerinde kullanı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vlan-multiple-l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VLAN ve Çoklu L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CCBoot Tanıtım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9440" y="2491920"/>
            <a:ext cx="5975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internet kafeler, okullar ve şirketler için bir disksiz önyükleme çözümü, kolay güncelleme ve geri yükleme yazılım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Bu sunumda özellikle, CCBoot’un internet kafeler için sahip olduğu muhteşem fonksiyonları tanıtıyor olacağı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- Youngzsoft tarafından sunulmakta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GoodG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Bilgisay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letişim: Charlie Simo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Adres: Storgatan 2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211 4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Malmö, Sveri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Telefon: 040-636 47 00; 0704-8965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Email: charlie@a-game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Anasayfa: </a:t>
            </a:r>
            <a:r>
              <a:rPr b="0" lang="tr-TR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-game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Başarılı Çalışmalar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ases_01"/>
          <p:cNvPicPr/>
          <p:nvPr/>
        </p:nvPicPr>
        <p:blipFill>
          <a:blip r:embed="rId3"/>
          <a:stretch/>
        </p:blipFill>
        <p:spPr>
          <a:xfrm>
            <a:off x="5796000" y="2709720"/>
            <a:ext cx="1940040" cy="1940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3574080" y="184464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CBoot İsveç’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ternet Cafe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Kafenin Ağı: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Adr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Russia, Krasnodar, Severn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st. 300, Postovaya st. 34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"MediaPlaz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Başarılı Çalışmalar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76600" y="1844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CBoot Rusya’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scsi-boot-solution-in-a-russian-cyber-cafe-3"/>
          <p:cNvPicPr/>
          <p:nvPr/>
        </p:nvPicPr>
        <p:blipFill>
          <a:blip r:embed="rId2"/>
          <a:stretch/>
        </p:blipFill>
        <p:spPr>
          <a:xfrm>
            <a:off x="5724360" y="2637000"/>
            <a:ext cx="2794320" cy="372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Kafe İsmi: Gamepark Internet Cafe (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73 </a:t>
            </a: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bilgisay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İletişim: Osman Ö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Telefon: (0332) 237 0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E-mail: osmanoney@hotmail.com.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Adres: Feritpaşa Mah. Gürdal Sok. M.katırcı Apt. 4/B Selçuklu, Konya, 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Başarılı Çalışmalar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574440" y="184464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CBoot Türkiye’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5869080" y="2997360"/>
            <a:ext cx="2854080" cy="214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Başarılı Çalışmalar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575520" y="184464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CBoot Çin’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cases_04"/>
          <p:cNvPicPr/>
          <p:nvPr/>
        </p:nvPicPr>
        <p:blipFill>
          <a:blip r:embed="rId2"/>
          <a:stretch/>
        </p:blipFill>
        <p:spPr>
          <a:xfrm>
            <a:off x="684360" y="2781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anduola1"/>
          <p:cNvPicPr/>
          <p:nvPr/>
        </p:nvPicPr>
        <p:blipFill>
          <a:blip r:embed="rId3"/>
          <a:stretch/>
        </p:blipFill>
        <p:spPr>
          <a:xfrm>
            <a:off x="3060720" y="2781360"/>
            <a:ext cx="2787480" cy="208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suteng1"/>
          <p:cNvPicPr/>
          <p:nvPr/>
        </p:nvPicPr>
        <p:blipFill>
          <a:blip r:embed="rId4"/>
          <a:stretch/>
        </p:blipFill>
        <p:spPr>
          <a:xfrm>
            <a:off x="6013440" y="2781360"/>
            <a:ext cx="2857680" cy="2124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539640" y="5302080"/>
            <a:ext cx="259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nternet ka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300 bilgisay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Hebei Prov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132000" y="530208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Chinese cyb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21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stem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6088320" y="5302080"/>
            <a:ext cx="171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Chinese cyber ca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200 Bilgisayar 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73 istem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2720" y="2203560"/>
            <a:ext cx="748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CCBoot başarı hikayeleri ile ilgili daha fazla bilgi için, lütfen adrese başvurun: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case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CCBoot Internet Kafe çözümüyle ilgili daha fazla bilgi içi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lütfen adrese başvurun: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cboot.com/internet-cafe-software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Daha Fazla Bilgi İç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971640" y="1484280"/>
            <a:ext cx="72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33"/>
                </a:solidFill>
                <a:latin typeface="Tahoma"/>
              </a:rPr>
              <a:t>Teşekkürler!</a:t>
            </a:r>
            <a:br>
              <a:rPr sz="4000"/>
            </a:b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2014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56000" y="3287880"/>
          <a:ext cx="4994280" cy="2101680"/>
        </p:xfrm>
        <a:graphic>
          <a:graphicData uri="http://schemas.openxmlformats.org/drawingml/2006/table">
            <a:tbl>
              <a:tblPr/>
              <a:tblGrid>
                <a:gridCol w="1290240"/>
                <a:gridCol w="216000"/>
                <a:gridCol w="3488040"/>
              </a:tblGrid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Şi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Youngzsoft Co., L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A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Room 1620, Yannian Shijia Hotel</a:t>
                      </a:r>
                      <a:br>
                        <a:rPr sz="1400"/>
                      </a:b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299 Renmin East Road, Furong</a:t>
                      </a:r>
                      <a:br>
                        <a:rPr sz="1400"/>
                      </a:b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hangsha, Hunan, China 4100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Telef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+86-731-855373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support@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Websayf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http://www.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abit Disk Masraflarından Kurtul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4920" y="2204640"/>
            <a:ext cx="4897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İstemci bilgisayarlarında sabit disk ihtiyacı yoktur, böylece sabit disklere harcanan yüksek miktarda para geri kazanılmış olacakt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01"/>
          <p:cNvPicPr/>
          <p:nvPr/>
        </p:nvPicPr>
        <p:blipFill>
          <a:blip r:embed="rId2"/>
          <a:stretch/>
        </p:blipFill>
        <p:spPr>
          <a:xfrm>
            <a:off x="826920" y="2060640"/>
            <a:ext cx="24386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74920" y="2205000"/>
            <a:ext cx="489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İstemci bilgisayar yeniden başlatıldığında, sistem virüs ve zararlı yazılımlardan arındırılmış, tertemiz haline geri dönecek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84360" y="1062000"/>
            <a:ext cx="79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Virüs ve Zararlı Yazılımlardan Uzak Du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2"/>
          <p:cNvPicPr/>
          <p:nvPr/>
        </p:nvPicPr>
        <p:blipFill>
          <a:blip r:embed="rId2"/>
          <a:stretch/>
        </p:blipFill>
        <p:spPr>
          <a:xfrm>
            <a:off x="684360" y="185112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76360" y="2205000"/>
            <a:ext cx="4895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Ağ yöneticisi, sadece bir istemci bilgisayarda güncelleme yapar ve ağdaki diğer tüm istemci bilgisayarlar güncellenmiş ol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Güncellemek Çocuk Oyuncağ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"/>
          <p:cNvPicPr/>
          <p:nvPr/>
        </p:nvPicPr>
        <p:blipFill>
          <a:blip r:embed="rId2"/>
          <a:stretch/>
        </p:blipFill>
        <p:spPr>
          <a:xfrm>
            <a:off x="684360" y="19890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276720" y="2205000"/>
            <a:ext cx="4895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Sunucuda sadece bir kişi işlem yapar ve tüm istemci bilgisayarlar başlatıldığında bütün işlem tamamlanmış ol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84360" y="907920"/>
            <a:ext cx="77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İnsan Kaynakları Korunmuş Ol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4"/>
          <p:cNvPicPr/>
          <p:nvPr/>
        </p:nvPicPr>
        <p:blipFill>
          <a:blip r:embed="rId2"/>
          <a:stretch/>
        </p:blipFill>
        <p:spPr>
          <a:xfrm>
            <a:off x="684360" y="156384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Enerjiden Tasarru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76720" y="2216160"/>
            <a:ext cx="47512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Enerji tasarrufu sağlayan, çevresel anlamda faydalı seviyede %30’dan %40’lara varan enerji geri kazanımı sağ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05"/>
          <p:cNvPicPr/>
          <p:nvPr/>
        </p:nvPicPr>
        <p:blipFill>
          <a:blip r:embed="rId2"/>
          <a:stretch/>
        </p:blipFill>
        <p:spPr>
          <a:xfrm>
            <a:off x="755640" y="17064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Geri dönüşüm noktası oluşturma, son durumla birleştirme ve son duruma geri yükleme gibi özellikleri içeren Geri dönüşüm noktaları, hataları düzeltmenize ve imaj performansını artırmanıza yardımcı ol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restore-point-managemen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Geri Yükleme Noktası Yöneti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95280" y="2349000"/>
            <a:ext cx="4537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oldukça iyi seviyede bir önbellek performansıyla donatılmıştır. Fiziksel bellek ve SSD önbelleği desteklenmekte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Etkili Önbellek Düzenleme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6"/>
          <p:cNvPicPr/>
          <p:nvPr/>
        </p:nvPicPr>
        <p:blipFill>
          <a:blip r:embed="rId2"/>
          <a:stretch/>
        </p:blipFill>
        <p:spPr>
          <a:xfrm>
            <a:off x="684360" y="198900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5:31:19Z</dcterms:created>
  <dc:creator/>
  <dc:description/>
  <dc:language>en-US</dc:language>
  <cp:lastModifiedBy/>
  <dcterms:modified xsi:type="dcterms:W3CDTF">2014-07-09T03:00:5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