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CAE-3353-4F5E-8BC1-28DEEB22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DD8-7D4D-4DE8-A7DB-05978BC9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BC4-79B1-45D5-8433-8A9EC5ED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9FC-A0AD-41A3-A29D-0443B0D3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D84-0128-445C-88F7-8FF8E56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99F-DDFC-4CAA-9174-4741ECC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738-0AA1-4239-BF34-C8501DC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56B-38F9-4C78-AF7E-B497CA8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88E-6DFC-4611-AA86-F9B5DDC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082-8B67-4AE1-A6DE-95E219D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006-6646-42DC-AF6F-F9BAAB1E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0A7-A7DD-461E-9081-20DEB0D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6E05-2C33-4558-A9BB-C045F70B2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hyperlink" Target="http://www.youtube.com/watch?v=h4Kv6lk0GKY" TargetMode="External"/><Relationship Id="rId4" Type="http://schemas.openxmlformats.org/officeDocument/2006/relationships/hyperlink" Target="http://www.youtube.com/watch?v=h4Kv6lk0GKY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hyperlink" Target="http://www.youtube.com/watch?v=b_tyjvk8g78" TargetMode="External"/><Relationship Id="rId4" Type="http://schemas.openxmlformats.org/officeDocument/2006/relationships/hyperlink" Target="http://www.youtube.com/watch?v=b_tyjvk8g78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thin-client-solution-for-education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200"/>
            <a:ext cx="3817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rth Valle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Grangemouth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alkirk, Falki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K2 9AD United King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www.forthvalley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plo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Jon Rus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jon.russell@forthvalley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Arial"/>
              </a:rPr>
              <a:t>1400 PCs v3.0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Arial"/>
              </a:rPr>
              <a:t>MS Active Directory + MS DHCP + Win7 Ultimate S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808360" cy="20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t. Bonaventure Catho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Primary School (HongKo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http://www.sbcps.edu.h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CBoot Diskless Solution in Cloud Environmental Protection Computer Rooms, which perfected the plan of "Sustainable Development of E-Generation, Energy Saving and Waste Reduction Easy Choice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9080" y="2276640"/>
            <a:ext cx="414360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Education Solu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thin-client-solution-for-education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56000" y="3287880"/>
          <a:ext cx="4968720" cy="209700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3-28T08:11:24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