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A7DE-C82A-480D-9AF4-9073B815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E684-0336-4736-92C6-DBB2E297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01AB-588E-4B3D-A6FB-9DF8A7479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DA21-D0A2-48A9-B17C-E162FCCC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30A9-D82B-4C08-8B21-C1DE62D1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E6BF-5304-4326-8545-D6D72FE9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F4A1-2193-412D-8405-9A1CDF8D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4DF6-BA61-40E8-BDAC-610E9D69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D679-A6A4-4299-86B3-C0A678F5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B0AA-BFC0-4498-8FDB-6C2AC842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9B3F-19F2-4F56-B14B-A06C6657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D65A-28E5-4069-892D-8E4DFCA2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E7B4-D95F-42C8-8EBF-4A257F3C0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use-of-personal-disk.htm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h4Kv6lk0GKY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ki-load-balance.htm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b_tyjvk8g78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how-to-set-multiple-os-boot.htm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graphic-boot-menu.htm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single-image-for-multiple-specifications.htm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ccboot-third-part-dhcp-tftp.htm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vlan-multiple-lan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-game.se/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case.htm" TargetMode="External"/><Relationship Id="rId3" Type="http://schemas.openxmlformats.org/officeDocument/2006/relationships/hyperlink" Target="http://www.ccboot.com/internet-cafe-software.htm" TargetMode="External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restore-point-management.htm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042920" y="2133360"/>
            <a:ext cx="71294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personal disk is used to store client data that never lost even when reboot the cli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use-of-personal-disk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90792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onal Dis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971640" y="2133360"/>
            <a:ext cx="7200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uper Path can realize two servers working at the same time. If one server has stoppage, the other one will take place of it without affecting and restarting cli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h4Kv6lk0G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ilover with Super Pa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71280" y="2131560"/>
            <a:ext cx="7056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supports single server with multi NICs load balance, and multiple servers load ba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ki-load-balanc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ad Bal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556000" y="4221000"/>
            <a:ext cx="3744720" cy="2067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971280" y="2133720"/>
            <a:ext cx="7057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can perfectly work with Windows domain. One can login with domain account, then load and store personal data on the personal dis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b_tyjvk8g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907920"/>
            <a:ext cx="792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ndows Domain Support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843280" y="4365720"/>
            <a:ext cx="3166920" cy="216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971640" y="2205000"/>
            <a:ext cx="71294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allows a diskless boot on Windows XP, Windows 7 and Windows 8 etc. Besides, multiple OS boot can be real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91764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 Suppor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332000" y="4219560"/>
            <a:ext cx="2592360" cy="542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229440" y="4003560"/>
            <a:ext cx="1584360" cy="1155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213080" y="3860640"/>
            <a:ext cx="1633680" cy="119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971280" y="2205000"/>
            <a:ext cx="7272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Multi OS Boot can realize selecting more than one operating system to start from the same cli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how-to-set-multiple-os-boo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2920" y="91764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OS Boo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971280" y="2205000"/>
            <a:ext cx="7272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supports customizing the boot graphic. You can set the graphic boot menu as you lik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graphic-boot-menu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91764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phic Boo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971640" y="2203200"/>
            <a:ext cx="7416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he PnP function of CCBoot makes it possible to create a single image for all client PCs with various specific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single-image-for-multiple-specification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90792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 Image for Multiple Spec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971640" y="2203200"/>
            <a:ext cx="7200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is compatible with third party DHCP and TFTP, which makes the management become more conveni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ccboot-third-part-dhcp-tftp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90792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Party DHCP and TFT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971640" y="2203200"/>
            <a:ext cx="7200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can be used on dual NICs and dual LANs, dual LANs segment, and even VLA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vlan-multiple-la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90792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LAN and Multiple LA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CBoot 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49440" y="2491920"/>
            <a:ext cx="59752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Arial"/>
              </a:rPr>
              <a:t>CCBoot is a diskless boot solution, easy to update &amp; recovery software for Internet cafes, schools and compa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Arial"/>
              </a:rPr>
              <a:t>In this PPT, we will mainly introduce CCBoot’s wonderful function for Internet Ca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Arial"/>
              </a:rPr>
              <a:t>- Contributed by Youngzs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971280" y="2203560"/>
            <a:ext cx="4392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GoodGa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50 Compu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tact: Charlie Simo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ddress: Storgatan 25, 211 42 Malmö, Sveri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hone: 040-636 47 00; 0704-8965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Email: charlie@a-game.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omepage: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-game.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58920" y="907920"/>
            <a:ext cx="612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uccessful Cas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3859200"/>
            <a:ext cx="6697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71640" y="5013360"/>
            <a:ext cx="6697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796000" y="2709720"/>
            <a:ext cx="1940040" cy="1940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566880" y="184464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Boot in Sw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71280" y="2203560"/>
            <a:ext cx="4392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nternet Cafe Nam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Network of e-Cafe's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ddres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Russia, Krasnodar, Severnay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st. 300, Postovaya st. 34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"MediaPlaz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907920"/>
            <a:ext cx="612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uccessful Cas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3859200"/>
            <a:ext cx="6697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5013360"/>
            <a:ext cx="6697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6520" y="1844640"/>
            <a:ext cx="19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CBoot in Rus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724360" y="2637000"/>
            <a:ext cx="2794320" cy="372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71280" y="2203560"/>
            <a:ext cx="4392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Cafe Name: Gamepark Internet Cafe (73 PC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Contact Person: Osman Ön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Telephone: (0332) 237 0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E-mail: osmanoney@hotmail.com.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Address: Feritpaşa Mah. Gürdal Sok. M.katırcı Apt. 4/B Selçuklu, Konya, Tur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907920"/>
            <a:ext cx="612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uccessful Case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3859200"/>
            <a:ext cx="6697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5013360"/>
            <a:ext cx="6697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65800" y="1844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CBoot in Tur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869080" y="2997360"/>
            <a:ext cx="2854080" cy="214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71280" y="2203560"/>
            <a:ext cx="4392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58920" y="907920"/>
            <a:ext cx="612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uccessful Case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3859200"/>
            <a:ext cx="6697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5013360"/>
            <a:ext cx="6697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66880" y="1844640"/>
            <a:ext cx="18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CBoot in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84360" y="278136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060720" y="2781360"/>
            <a:ext cx="2787480" cy="2089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013440" y="2781360"/>
            <a:ext cx="2857680" cy="2124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39640" y="5302080"/>
            <a:ext cx="259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nternet ca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00 compu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ebei Provi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32000" y="530208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hinese cyber caf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15 cl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79680" y="5302080"/>
            <a:ext cx="1898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hinese cyber ca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ith 73 clients am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0 P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72720" y="2203560"/>
            <a:ext cx="7488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For more information about CCBoot Successful Case, please refer to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case.htm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For more information about CCBoot Internet Cafe Solution, please refer to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ccboot.com/internet-cafe-software.htm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58920" y="907920"/>
            <a:ext cx="612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More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3859200"/>
            <a:ext cx="6697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5013360"/>
            <a:ext cx="6697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71640" y="1484280"/>
            <a:ext cx="7272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ahoma"/>
              </a:rPr>
              <a:t>Thank you!</a:t>
            </a:r>
            <a:br>
              <a:rPr sz="4000"/>
            </a:b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2014.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556000" y="3287880"/>
          <a:ext cx="4968720" cy="2100240"/>
        </p:xfrm>
        <a:graphic>
          <a:graphicData uri="http://schemas.openxmlformats.org/drawingml/2006/table">
            <a:tbl>
              <a:tblPr/>
              <a:tblGrid>
                <a:gridCol w="1283400"/>
                <a:gridCol w="216000"/>
                <a:gridCol w="3469320"/>
              </a:tblGrid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Comp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Youngzsoft Co., Lt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Add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Room 1620, Yannian Shijia Hotel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299 Renmin East Road, Furong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Changsha, Hunan, China 4100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Ph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+86-731-855373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E-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support@ccboot.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Web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http://www.ccboot.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560" y="907560"/>
            <a:ext cx="74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rd Disk Expenses Sav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74920" y="2204640"/>
            <a:ext cx="48974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No need for hard disk on client PCs, so a large amount of money for hard disks could be sav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26920" y="2060640"/>
            <a:ext cx="243864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74920" y="2205000"/>
            <a:ext cx="4897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After rebooting the client, the system will be restored to a clean state without any Viruses and Troja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2560" y="907920"/>
            <a:ext cx="792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uses and Trojans Avoid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4360" y="1851120"/>
            <a:ext cx="243828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76360" y="2205000"/>
            <a:ext cx="48956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Network admin updates on one client PC, and then all the PCs on the LAN will be updat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sy to Upda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4360" y="1989000"/>
            <a:ext cx="2438280" cy="381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76720" y="2205000"/>
            <a:ext cx="489564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One person operates on the server, and then all the work will be done after rebooting the cli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man Resources Sav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4360" y="1563840"/>
            <a:ext cx="243828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ergy Conserv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2216160"/>
            <a:ext cx="475128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30% to 40% energy could be saved, which is environmental and energy-sav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55640" y="1706400"/>
            <a:ext cx="2438280" cy="381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042920" y="2133360"/>
            <a:ext cx="71294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Restore point, including create recovery, merge to last and restore to last, helps to fix mistakes and keep the image performa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restore-point-managemen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90792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tore Point Manag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95280" y="2349000"/>
            <a:ext cx="45370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is equipped with good cache performance. Physical memory and SSD cache are suppor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icient Cache Equipp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4360" y="1989000"/>
            <a:ext cx="316836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05:31:19Z</dcterms:created>
  <dc:creator>User009</dc:creator>
  <dc:description/>
  <dc:language>en-US</dc:language>
  <cp:lastModifiedBy>liuhu</cp:lastModifiedBy>
  <dcterms:modified xsi:type="dcterms:W3CDTF">2014-07-09T03:00:13Z</dcterms:modified>
  <cp:revision>69</cp:revision>
  <dc:subject/>
  <dc:title>CCBoot企业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