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080-A6B7-42B9-999A-01B401AB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F2A-AEBE-4D16-A33C-86180E22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55C-D9CE-431A-951B-27987AB4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3F9-0884-4479-BFC6-3E1A0050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6F2-87DF-46C3-9E37-9B62610E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A18-FE97-453B-AFDC-73A1409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C55-54AF-4D70-8C3F-2CE81F2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80C-4892-4A39-8909-C6BBA9C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9DE-F5F6-459B-B8D2-C899653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378-F06B-4D0A-AE4B-3340D2DB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EEF-0D12-4C8B-906D-B456A7A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1EE-62DE-482F-BCF5-3655BE1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BAB-84E6-45D2-8057-0D4F63D5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render-farm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thin-client-solution-for-enterprise.ht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personal disk is used to store client data that never lost even when reboot th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per Path can realize two servers working at the same time. If one server has stoppage, the other one will take place of it without affecting and restarting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over with Super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13156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single server with multi NICs load balance, and multiple servers load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perfectly work with Windows domain. One can login with domain account, then load and store personal data on the personal d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90792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Domain Suppor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allows a diskless boot on Windows XP, Windows 7 and Windows 8 etc. Besides, multiple OS boot can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 OS Boot can realize selecting more than one operating system to start from the sam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OS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customizing the boot graphic. You can set the graphic boot menu as you l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PnP function of CCBoot makes it possible to create a single image for all client PCs with various specif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Image for Multiple Spe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compatible with third party DHCP and TFTP, which makes the management become more conven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Party DHCP and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be used on dual NICs and dual LANs, dual LANs segment, and even V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AN and Multiple 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Boot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CCBoot is a diskless boot solution, easy to update &amp; recovery software for Internet cafes, schools an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In this PPT, we will mainly introduce CCBoot’s wonderful function for enter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- Contributed by Youngz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200"/>
            <a:ext cx="38178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QUANTUM LEAP LL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Russian Federation, 109428, Moscow. Ryazanskyi prospect, bld. 10/2, appt. 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ontact: Vladislav Safo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Phone: +7-926-529-42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S Active Directory + MS DHCP + VLAN + Win7/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1300 pcs v3.0 Enterprise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18763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3080" y="2203560"/>
            <a:ext cx="7561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Company Name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EckoSib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Contact Person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Ulyankin 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Telephone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+79029272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E-mail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2972373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Address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663690, Russia, Zelenogorsk cit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Zovodskaya st.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Deploy Environ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CBoot v3.0 Enterprise Edition 110 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Network Structure, Server Specs, Client Spe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Main switch: 3COM 4500G 24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Sub-switches: 3COM 2916 SFP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Server: Core i7, 64GB RAM, SSD Plextor 256GB, SSD OCZ RevoX2 240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lients are very different: AMD chipsets , Intel chipsets, Nforce2/3/4/720, Amd 7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3080" y="2203560"/>
            <a:ext cx="7561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Boot has come to the 3D animation field with its successful deploy in render far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more information, please refer to "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CBoot Diskless Solution in Render Fa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046160" y="2997360"/>
            <a:ext cx="66960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Enterprise Solution, 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thin-client-solution-for-enterpris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ahoma"/>
              </a:rPr>
              <a:t>Thank you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56000" y="3287880"/>
          <a:ext cx="4968720" cy="2099880"/>
        </p:xfrm>
        <a:graphic>
          <a:graphicData uri="http://schemas.openxmlformats.org/drawingml/2006/table">
            <a:tbl>
              <a:tblPr/>
              <a:tblGrid>
                <a:gridCol w="1283400"/>
                <a:gridCol w="216000"/>
                <a:gridCol w="346932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Expens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need for hard disk on client PCs, so a large amount of money for hard disks could be sa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fter rebooting the client, the system will be restored to a clean state without any Viruses and Troj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90792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 and Trojans Avoi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twork admin updates on one client PC, and then all the PCs on the LAN will be upd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to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person operates on the server, and then all the work will be done after rebooting the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nserv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0% to 40% energy could be saved, which is environmental and energy-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tore point, including create recovery, merge to last and restore to last, helps to fix mistakes and keep the imag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ore Poin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equipped with good cache performance. Physical memory and SSD cache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Cache Equip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>User009</dc:creator>
  <dc:description/>
  <dc:language>en-US</dc:language>
  <cp:lastModifiedBy>liuhu</cp:lastModifiedBy>
  <dcterms:modified xsi:type="dcterms:W3CDTF">2014-03-31T04:03:39Z</dcterms:modified>
  <cp:revision>69</cp:revision>
  <dc:subject/>
  <dc:title>CCBoot企业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