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B36-AF12-4245-96C3-B40E5D51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7C1-E8D3-4FE3-B30F-78C14F4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0E3-0D39-4651-AE9C-D34656A8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328-CE27-476A-A2DB-9211DE01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955-5A86-4FC8-9EE4-9D7FDB2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AD1-02A3-412D-A0D4-37A73BB4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669-C17D-4DB9-9924-D999037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B11-0921-42BC-B842-5E0168D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366-9247-4FD8-93F7-64D3FCF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A16-8806-452D-A40C-CAD90CC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642-B950-4C81-8C54-337E7D62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ECB-4F17-4D8F-B670-A5AF5A4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C37-797B-4037-8ADE-A90E82AD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-game.se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case.htm" TargetMode="External"/><Relationship Id="rId3" Type="http://schemas.openxmlformats.org/officeDocument/2006/relationships/hyperlink" Target="http://www.ccboot.com/internet-cafe-software.htm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Internet Ca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GoodG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0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tact: Charlie Simo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ress: Storgatan 25, 211 42 Malmö, Sveri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hone: 040-636 47 00; 0704-896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mail: charlie@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page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96000" y="2709720"/>
            <a:ext cx="194004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66880" y="184464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oot in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etwork of e-Cafe's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r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ussia, Krasnodar, Severn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t. 300, Postovaya st. 34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"MediaPlaz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6520" y="184464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2794320" cy="37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afe Name: Gamepark Internet Cafe (73 P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ontact Person: Osman Ö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Telephone: (0332) 237 0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E-mail: osmanoney@hotmail.com.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Address: Feritpaşa Mah. Gürdal Sok. M.katırcı Apt. 4/B Selçuklu, Konya,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5800" y="1844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9080" y="2997360"/>
            <a:ext cx="2854080" cy="21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6880" y="184464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CBoot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60720" y="2781360"/>
            <a:ext cx="27874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13440" y="2781360"/>
            <a:ext cx="2857680" cy="21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5302080"/>
            <a:ext cx="259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00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ebei Prov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3020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hinese cyber c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15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79680" y="530208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hinese cyber c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ith 73 clients am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 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Successful Case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ca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Internet Cafe Solution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cboot.com/internet-cafe-softwar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56000" y="3287880"/>
          <a:ext cx="4968720" cy="210024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7-09T03:00:13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