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6871-8164-4160-B2A4-7E9ABDF2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58A9-425C-48D6-93AC-5E29EDFC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8C9D-BC43-4EFB-A6E2-F5DDAE4E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F430-D43E-43D9-9C79-AB0D92C6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A588-7319-4A96-87FC-D4F8654A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9E83-7425-478A-B5D5-F62A71B1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A9A1-5595-43CF-9B90-642A71C3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684-11B5-41AD-A1FE-48134CC0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B2B-96EA-49AA-949A-C775C2AF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BBB0-A339-424F-B975-5BDF6EC9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2D3C-278A-4A4D-AD01-0876884A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4839-D4DC-4A6A-B875-8207516A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545D-B034-4214-870C-56D477E02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use-of-personal-disk.htm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h4Kv6lk0GKY" TargetMode="External"/><Relationship Id="rId3" Type="http://schemas.openxmlformats.org/officeDocument/2006/relationships/hyperlink" Target="http://www.youtube.com/watch?v=h4Kv6lk0GKY" TargetMode="External"/><Relationship Id="rId4" Type="http://schemas.openxmlformats.org/officeDocument/2006/relationships/hyperlink" Target="http://www.youtube.com/watch?v=h4Kv6lk0GKY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ki-load-balance.htm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b_tyjvk8g78" TargetMode="External"/><Relationship Id="rId3" Type="http://schemas.openxmlformats.org/officeDocument/2006/relationships/hyperlink" Target="http://www.youtube.com/watch?v=b_tyjvk8g78" TargetMode="External"/><Relationship Id="rId4" Type="http://schemas.openxmlformats.org/officeDocument/2006/relationships/hyperlink" Target="http://www.youtube.com/watch?v=b_tyjvk8g78" TargetMode="Externa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how-to-set-multiple-os-boot.htm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graphic-boot-menu.htm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single-image-for-multiple-specifications.htm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ccboot-third-part-dhcp-tftp.htm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vlan-multiple-lan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thin-client-solution-for-education.htm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boot.com/wiki-restore-point-management.htm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042920" y="2133360"/>
            <a:ext cx="71294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personal disk is used to store client data that never lost even when reboot the cli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use-of-personal-disk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 Dis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71640" y="2133360"/>
            <a:ext cx="7200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uper Path can realize two servers working at the same time. If one server has stoppage, the other one will take place of it without affecting and restarting cli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youtube.com/watch?v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h4Kv6lk0G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ilover with Super Pa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71280" y="2131560"/>
            <a:ext cx="7056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supports single server with multi NICs load balance, and multiple servers load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ki-load-balanc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ad Bal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56000" y="4221000"/>
            <a:ext cx="3744720" cy="206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971280" y="2133720"/>
            <a:ext cx="7057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can perfectly work with Windows domain. One can login with domain account, then load and store personal data on the personal dis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youtube.com/watch?v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b_tyjvk8g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907920"/>
            <a:ext cx="79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ndows Domain Support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2843280" y="4365720"/>
            <a:ext cx="3166920" cy="216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971640" y="2205000"/>
            <a:ext cx="71294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allows a diskless boot on Windows XP, Windows 7 and Windows 8 etc. Besides, multiple OS boot can be real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91764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 Suppo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332000" y="4219560"/>
            <a:ext cx="2592360" cy="542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229440" y="4003560"/>
            <a:ext cx="1584360" cy="1155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213080" y="3860640"/>
            <a:ext cx="1633680" cy="119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971280" y="2205000"/>
            <a:ext cx="7272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Multi OS Boot can realize selecting more than one operating system to start from the same cli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how-to-set-multiple-os-boo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91764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OS Boo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71280" y="2205000"/>
            <a:ext cx="7272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supports customizing the boot graphic. You can set the graphic boot menu as you lik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graphic-boot-menu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91764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ic Boo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71640" y="2203200"/>
            <a:ext cx="7416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e PnP function of CCBoot makes it possible to create a single image for all client PCs with various specific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single-image-for-multiple-specification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Image for Multiple Spe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971640" y="2203200"/>
            <a:ext cx="7200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is compatible with third party DHCP and TFTP, which makes the management become more conveni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ccboot-third-part-dhcp-tftp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Party DHCP and TFT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71640" y="2203200"/>
            <a:ext cx="7200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can be used on dual NICs and dual LANs, dual LANs segment, and even VL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vlan-multiple-la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LAN and Multiple LA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CBoot 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49440" y="2491920"/>
            <a:ext cx="59752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CCBoot is a diskless boot solution, easy to update &amp; recovery software for Internet cafes, schools and compa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In this PPT, we will mainly introduce CCBoot’s wonderful function for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- Contributed by Youngz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71280" y="2203200"/>
            <a:ext cx="381780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Forth Valley Colle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Grangemouth R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Falkirk, Falki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FK2 9AD United Kingd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www.forthvalley.ac.u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uccessful Cas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ploy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Jon Rus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jon.russell@forthvalley.ac.u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d4d4d"/>
                </a:solidFill>
                <a:latin typeface="Arial"/>
              </a:rPr>
              <a:t>1400 PCs v3.0 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d4d4d"/>
                </a:solidFill>
                <a:latin typeface="Arial"/>
              </a:rPr>
              <a:t>MS Active Directory + MS DHCP + Win7 Ultimate S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219640" y="2349360"/>
            <a:ext cx="2808360" cy="202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73080" y="2203560"/>
            <a:ext cx="7561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St. Bonaventure Cathol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Primary School (HongKong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http://www.sbcps.edu.h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</a:rPr>
              <a:t>CCBoot Diskless Solution in Cloud Environmental Protection Computer Rooms, which perfected the plan of "Sustainable Development of E-Generation, Energy Saving and Waste Reduction Easy Choice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uccessful Cas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29080" y="2276640"/>
            <a:ext cx="4143600" cy="85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72720" y="2203560"/>
            <a:ext cx="7488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For more information about CCBoot Education Solu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lease refer to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thin-client-solution-for-education.ht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907920"/>
            <a:ext cx="61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Mor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3859200"/>
            <a:ext cx="669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5013360"/>
            <a:ext cx="669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71640" y="1484280"/>
            <a:ext cx="7272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ahoma"/>
              </a:rPr>
              <a:t>Thank you!</a:t>
            </a:r>
            <a:br>
              <a:rPr sz="4000"/>
            </a:b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2014.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556000" y="3287880"/>
          <a:ext cx="4968720" cy="2097000"/>
        </p:xfrm>
        <a:graphic>
          <a:graphicData uri="http://schemas.openxmlformats.org/drawingml/2006/table">
            <a:tbl>
              <a:tblPr/>
              <a:tblGrid>
                <a:gridCol w="1283400"/>
                <a:gridCol w="216000"/>
                <a:gridCol w="3469320"/>
              </a:tblGrid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Comp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Youngzsoft Co., Lt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Add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Room 1620, Yannian Shijia Hotel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299 Renmin East Road, Furong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Changsha, Hunan, China 4100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Ph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+86-731-855373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E-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support@ccboot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Web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d4d4d"/>
                          </a:solidFill>
                          <a:latin typeface="Arial"/>
                          <a:ea typeface="Arial Unicode MS"/>
                        </a:rPr>
                        <a:t>http://www.ccboot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74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rd Disk Expenses Sa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74920" y="2204640"/>
            <a:ext cx="48974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No need for hard disk on client PCs, so a large amount of money for hard disks could be sav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243864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74920" y="2205000"/>
            <a:ext cx="4897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After rebooting the client, the system will be restored to a clean state without any Viruses and Troja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2560" y="907920"/>
            <a:ext cx="792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uses and Trojans Avoid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4360" y="1851120"/>
            <a:ext cx="243828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76360" y="2205000"/>
            <a:ext cx="48956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Network admin updates on one client PC, and then all the PCs on the LAN will be upda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sy to Upda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2438280" cy="381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76720" y="2205000"/>
            <a:ext cx="489564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ne person operates on the server, and then all the work will be done after rebooting the cli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man Resources Sa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4360" y="1563840"/>
            <a:ext cx="243828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ergy Conserv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2216160"/>
            <a:ext cx="475128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30% to 40% energy could be saved, which is environmental and energy-sav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55640" y="1706400"/>
            <a:ext cx="2438280" cy="381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042920" y="2133360"/>
            <a:ext cx="71294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Restore point, including create recovery, merge to last and restore to last, helps to fix mistakes and keep the image performa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details, please ref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cboot.com/wiki-restore-point-managemen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90792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tore Point Manag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95280" y="2349000"/>
            <a:ext cx="45370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CBoot is equipped with good cache performance. Physical memory and SSD cache are suppor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90792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icient Cache Equipp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316836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05:31:19Z</dcterms:created>
  <dc:creator>User009</dc:creator>
  <dc:description/>
  <dc:language>en-US</dc:language>
  <cp:lastModifiedBy>liuhu</cp:lastModifiedBy>
  <dcterms:modified xsi:type="dcterms:W3CDTF">2014-03-28T08:11:24Z</dcterms:modified>
  <cp:revision>69</cp:revision>
  <dc:subject/>
  <dc:title>CCBoot企业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